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EE20-E969-4562-B272-268FC8C03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07AB-97C3-460D-9FC4-87FAED313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DC21-BBF2-432B-8E30-13D6448FF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31DE-29F1-4265-B116-6A27C6C62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46F8B-DCCB-402C-ACEE-35DDD4A9C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36FA3-7C39-4510-966E-3ACBA1A95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B55C6-64D2-4211-9D74-7FEA2A3DC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5A95A-29A0-41B5-A9A0-0F4FCA156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E0BCA-9486-4284-8A1D-EBF1BCB7F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6D072-9898-4AE3-BE4F-AB33B6710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141E4-829F-43AB-8588-7D36FC76B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383D-9D42-4F0F-BA56-25D35BCB6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08EFB-E2FE-4843-8A90-E94F468F3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8BBDE-0873-4DC0-AE75-CF5A9490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38E3A-AE93-43AF-B550-D4F9665BC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61775-465D-4788-80FE-A874E41E6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04FC4-A17C-44BF-9A31-B09FCCF53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5B824-7CED-42EE-B7D7-09451AFC5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9BF67-11B3-4E59-8966-1272EBE89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8B598-B59A-4D29-8831-110136742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BA39D-487D-473E-937E-B9E1700E0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A07E6-F9D1-462C-84A6-3E430F1EB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7E9C-0325-4A4E-80CF-E171DD720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23CC5-4808-43DE-9B0D-4D6E2202F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45060-DF2A-4FA0-AEF9-CB512FEFA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D837A-6FBB-40AE-AB16-C80A13BF7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680AC-57A1-4204-B22E-19737E679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07251-EC10-444D-8214-50D4F4E1C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B987B-5AA4-4127-BECC-E5E123B7F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05326-A876-43E7-A2E4-790BEA692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01DA-E019-4AE2-A4C4-B1071FFC6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7F4D-3E8F-4B28-A72B-704FB818F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4975-7B1F-455B-93AE-E90E45A2A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2D49-A5BE-4803-860B-AAC09A036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C0E4-D4D8-44B5-91DD-B6F2EB7EE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9369-4B85-42DB-8153-50AB377F4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4BC02-D8A6-4218-996A-9DDE4C19B1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AECB0-FDA6-4C7B-8A41-C7A7F98DB8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200B5-47FB-4D6B-831E-C3D2976B41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file:///../Evaluare/FORMULARUL%20DE%20REACTIE%20LA%20PREZENTARE.doc" TargetMode="External"/><Relationship Id="rId3" Type="http://schemas.openxmlformats.org/officeDocument/2006/relationships/hyperlink" Target="file:///../Evaluare/Feedback.doc" TargetMode="External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../Evaluare/Descriptori%20pentru%20evaluarea%20prezentarii%204,3,2,1.doc" TargetMode="External"/><Relationship Id="rId2" Type="http://schemas.openxmlformats.org/officeDocument/2006/relationships/hyperlink" Target="file:///../Evaluare/Descriptori%20pentru%20evaluarea%20prezentarii%204,3,2,1.doc" TargetMode="External"/><Relationship Id="rId3" Type="http://schemas.openxmlformats.org/officeDocument/2006/relationships/hyperlink" Target="file:///../Evaluare/Descriptori%20pentru%20evaluarea%20prezentarii%204,3,2,1.doc" TargetMode="External"/><Relationship Id="rId4" Type="http://schemas.openxmlformats.org/officeDocument/2006/relationships/hyperlink" Target="file:///../Evaluare/Descriptori%20pentru%20evaluarea%20prezentarii%204,3,2,1.doc" TargetMode="External"/><Relationship Id="rId5" Type="http://schemas.openxmlformats.org/officeDocument/2006/relationships/hyperlink" Target="file:///../Evaluare/Descriptori%20pentru%20evaluarea%20prezentarii%204,3,2,1.doc" TargetMode="External"/><Relationship Id="rId6" Type="http://schemas.openxmlformats.org/officeDocument/2006/relationships/hyperlink" Target="file:///../Evaluare/Descriptori%20pentru%20evaluarea%20prezentarii%204,3,2,1.doc" TargetMode="External"/><Relationship Id="rId7" Type="http://schemas.openxmlformats.org/officeDocument/2006/relationships/hyperlink" Target="file:///../Evaluare/Descriptori%20pentru%20evaluarea%20prezentarii%204,3,2,1.doc" TargetMode="External"/><Relationship Id="rId8" Type="http://schemas.openxmlformats.org/officeDocument/2006/relationships/hyperlink" Target="file:///../Evaluare/Lista%20de%20verificare%20publicatie.doc" TargetMode="External"/><Relationship Id="rId9" Type="http://schemas.openxmlformats.org/officeDocument/2006/relationships/hyperlink" Target="file:///../Evaluare/Lista%20de%20verificare%20publicatie.doc" TargetMode="External"/><Relationship Id="rId10" Type="http://schemas.openxmlformats.org/officeDocument/2006/relationships/hyperlink" Target="file:///../Evaluare/Lista%20de%20verificare%20publicatie.doc" TargetMode="External"/><Relationship Id="rId11" Type="http://schemas.openxmlformats.org/officeDocument/2006/relationships/hyperlink" Target="file:///../Evaluare/Lista%20de%20verificare%20publicatie.doc" TargetMode="External"/><Relationship Id="rId12" Type="http://schemas.openxmlformats.org/officeDocument/2006/relationships/hyperlink" Target="file:///../Evaluare/Lista%20de%20verificare%20publicatie.doc" TargetMode="External"/><Relationship Id="rId13" Type="http://schemas.openxmlformats.org/officeDocument/2006/relationships/hyperlink" Target="file:///../Evaluare/Lista%20de%20verificare%20publicatie.doc" TargetMode="External"/><Relationship Id="rId14" Type="http://schemas.openxmlformats.org/officeDocument/2006/relationships/hyperlink" Target="file:///../Evaluare/Lista%20de%20verificare%20publicatie.doc" TargetMode="External"/><Relationship Id="rId15" Type="http://schemas.openxmlformats.org/officeDocument/2006/relationships/hyperlink" Target="file:///../Evaluare/Lista%20de%20verificare%20publicatie.doc" TargetMode="External"/><Relationship Id="rId16" Type="http://schemas.openxmlformats.org/officeDocument/2006/relationships/hyperlink" Target="file:///../Evaluare/Lista%20de%20verificare%20publicatie.doc" TargetMode="External"/><Relationship Id="rId17" Type="http://schemas.openxmlformats.org/officeDocument/2006/relationships/hyperlink" Target="file:///../Evaluare/Lista%20de%20verificare%20publicatie.doc" TargetMode="External"/><Relationship Id="rId18" Type="http://schemas.openxmlformats.org/officeDocument/2006/relationships/hyperlink" Target="file:///../Evaluare/Evaluare%20pag%20wiki.doc" TargetMode="External"/><Relationship Id="rId19" Type="http://schemas.openxmlformats.org/officeDocument/2006/relationships/hyperlink" Target="file:///../Evaluare/Jurnal%20individual.doc" TargetMode="External"/><Relationship Id="rId20" Type="http://schemas.openxmlformats.org/officeDocument/2006/relationships/hyperlink" Target="file:///../Evaluare/Barem%20de%20evaluare%20proiect.doc" TargetMode="External"/><Relationship Id="rId21" Type="http://schemas.openxmlformats.org/officeDocument/2006/relationships/hyperlink" Target="file:///../Evaluare/Barem%20de%20evaluare%20proiect.doc" TargetMode="External"/><Relationship Id="rId22" Type="http://schemas.openxmlformats.org/officeDocument/2006/relationships/hyperlink" Target="file:///../Evaluare/Descriptori%20pentru%20evaluarea%20prezentarii%204,3,2,1.doc" TargetMode="External"/><Relationship Id="rId23" Type="http://schemas.openxmlformats.org/officeDocument/2006/relationships/image" Target="../media/image3.png"/><Relationship Id="rId2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www.waybuilder.net/sweethaven/MedTech/Neurologie" TargetMode="External"/><Relationship Id="rId3" Type="http://schemas.openxmlformats.org/officeDocument/2006/relationships/hyperlink" Target="http://ro.wikipedia.org/wiki/Sistem_nervos_vegetativ" TargetMode="External"/><Relationship Id="rId4" Type="http://schemas.openxmlformats.org/officeDocument/2006/relationships/hyperlink" Target="http://mrpitbull.3x.ro/" TargetMode="External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 rot="184800">
            <a:off x="572760" y="504720"/>
            <a:ext cx="7958160" cy="6356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e poţi face cu 100 de miliarde de neuroni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700360" y="1125360"/>
            <a:ext cx="3887640" cy="50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" nodeType="after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1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3203640" cy="4680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187280" y="189000"/>
            <a:ext cx="59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Evaluarea proiectel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348000" y="620640"/>
            <a:ext cx="57960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membrii fiecarei grupe vor  desemna un purtator de cuvant pentru grupa respectiv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se va solicita elevilor sa incarce produsele lor pe o pagina wiki sau blog ;colegii pot  furniza reactii  creind  noi subpagini in wiki pentru observatii (sau pe blog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pentru colectarea reactiilor in timp ce se prezinta portofoliul unui elev; fiecare grupa va avea de  completat un formular tiparit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(formularul de reactie la  prezentare) </a:t>
            </a:r>
            <a:r>
              <a:rPr b="0" i="1" lang="it-IT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formular care va fi completat si de  catre profesor</a:t>
            </a:r>
            <a:r>
              <a:rPr b="0" i="1" lang="it-IT" sz="2000" spc="-1" strike="noStrike">
                <a:solidFill>
                  <a:srgbClr val="ffffff"/>
                </a:solidFill>
                <a:latin typeface="Arial"/>
              </a:rPr>
              <a:t> pentru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fiecare grupa in parte ; se va tine cont de reactiile elevilor in stabilirea notei /grupa respectiva( daca acestea sunt pertinente si  argumentate corec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fiecare grupa va primi un  </a:t>
            </a:r>
            <a:r>
              <a:rPr b="0" lang="it-IT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formular pentru feedback 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-ul proiectulu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77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6" dur="770" fill="hold"/>
                                        <p:tgtEl>
                                          <p:spTgt spid="1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8" dur="77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0" dur="77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4967280" cy="65246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 txBox="1"/>
          <p:nvPr/>
        </p:nvSpPr>
        <p:spPr>
          <a:xfrm>
            <a:off x="2843280" y="1341360"/>
            <a:ext cx="590544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... 100 de miliarde de neuroni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0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after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3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37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3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4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4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1317600" y="171360"/>
            <a:ext cx="6512040" cy="6512040"/>
            <a:chOff x="1317600" y="171360"/>
            <a:chExt cx="6512040" cy="6512040"/>
          </a:xfrm>
        </p:grpSpPr>
        <p:sp>
          <p:nvSpPr>
            <p:cNvPr id="125" name="_s6197"/>
            <p:cNvSpPr/>
            <p:nvPr/>
          </p:nvSpPr>
          <p:spPr>
            <a:xfrm flipH="1" flipV="1">
              <a:off x="3419280" y="2276640"/>
              <a:ext cx="578160" cy="576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_s6187"/>
            <p:cNvSpPr/>
            <p:nvPr/>
          </p:nvSpPr>
          <p:spPr>
            <a:xfrm>
              <a:off x="2031840" y="887400"/>
              <a:ext cx="1629000" cy="162864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Cum ii distrugi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_s6196"/>
            <p:cNvSpPr/>
            <p:nvPr/>
          </p:nvSpPr>
          <p:spPr>
            <a:xfrm flipH="1">
              <a:off x="2942640" y="3427560"/>
              <a:ext cx="81612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_s6160"/>
            <p:cNvSpPr/>
            <p:nvPr/>
          </p:nvSpPr>
          <p:spPr>
            <a:xfrm>
              <a:off x="1317600" y="2612880"/>
              <a:ext cx="1628640" cy="16290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Cum ii poti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proteja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_s6195"/>
            <p:cNvSpPr/>
            <p:nvPr/>
          </p:nvSpPr>
          <p:spPr>
            <a:xfrm flipH="1">
              <a:off x="3420720" y="4002120"/>
              <a:ext cx="576360" cy="577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_s6158"/>
            <p:cNvSpPr/>
            <p:nvPr/>
          </p:nvSpPr>
          <p:spPr>
            <a:xfrm>
              <a:off x="2031840" y="4338720"/>
              <a:ext cx="1629000" cy="162864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Ce faci far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ei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_s6194"/>
            <p:cNvSpPr/>
            <p:nvPr/>
          </p:nvSpPr>
          <p:spPr>
            <a:xfrm>
              <a:off x="4572000" y="4240080"/>
              <a:ext cx="1440" cy="816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_s6170"/>
            <p:cNvSpPr/>
            <p:nvPr/>
          </p:nvSpPr>
          <p:spPr>
            <a:xfrm>
              <a:off x="3757680" y="5054760"/>
              <a:ext cx="1628640" cy="162864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Ce poti fac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eu ei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_s6193"/>
            <p:cNvSpPr/>
            <p:nvPr/>
          </p:nvSpPr>
          <p:spPr>
            <a:xfrm>
              <a:off x="5146560" y="4002120"/>
              <a:ext cx="577800" cy="576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_s6168"/>
            <p:cNvSpPr/>
            <p:nvPr/>
          </p:nvSpPr>
          <p:spPr>
            <a:xfrm>
              <a:off x="5484600" y="4340160"/>
              <a:ext cx="1629000" cy="16290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Cum s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grupeaza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_s6192"/>
            <p:cNvSpPr/>
            <p:nvPr/>
          </p:nvSpPr>
          <p:spPr>
            <a:xfrm>
              <a:off x="5384880" y="3427560"/>
              <a:ext cx="8157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_s6166"/>
            <p:cNvSpPr/>
            <p:nvPr/>
          </p:nvSpPr>
          <p:spPr>
            <a:xfrm>
              <a:off x="6200640" y="2612880"/>
              <a:ext cx="1629000" cy="16290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Cum sunt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alcatuiti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_s6191"/>
            <p:cNvSpPr/>
            <p:nvPr/>
          </p:nvSpPr>
          <p:spPr>
            <a:xfrm flipV="1">
              <a:off x="5146560" y="2276640"/>
              <a:ext cx="576360" cy="576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_s6164"/>
            <p:cNvSpPr/>
            <p:nvPr/>
          </p:nvSpPr>
          <p:spPr>
            <a:xfrm>
              <a:off x="5484600" y="885960"/>
              <a:ext cx="1629000" cy="162864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Cati avem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_s6190"/>
            <p:cNvSpPr/>
            <p:nvPr/>
          </p:nvSpPr>
          <p:spPr>
            <a:xfrm flipV="1">
              <a:off x="4572000" y="1800360"/>
              <a:ext cx="0" cy="814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_s6162"/>
            <p:cNvSpPr/>
            <p:nvPr/>
          </p:nvSpPr>
          <p:spPr>
            <a:xfrm>
              <a:off x="3757680" y="171360"/>
              <a:ext cx="1628640" cy="16290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Ce sunt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_s6156"/>
            <p:cNvSpPr/>
            <p:nvPr/>
          </p:nvSpPr>
          <p:spPr>
            <a:xfrm>
              <a:off x="3757680" y="2614680"/>
              <a:ext cx="1628640" cy="162864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NEURONI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5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2124000" y="0"/>
            <a:ext cx="7020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Pe parcursul studierii acestei unit</a:t>
            </a: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ăţi de învăţare v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ti</a:t>
            </a: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 avea de c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reat o prezentare  ppt si o  publicaţie  despre sistemul nervos pentru fiecare grupa de 3 elevi;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Publicaţia va fi realizată în Publisher şi va fi contine informatii despre factorii   nocivi cu efect  asupra sistemului nervos, despre efectele lor si despre                                                                            comportamentele profilactice recomandate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 Rounded MT Bold"/>
              </a:rPr>
              <a:t>Folosiţi toate instrumentele de control furnizate pe parcursul derulării proiectului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l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ist</a:t>
            </a:r>
            <a:r>
              <a:rPr b="0" lang="ro-RO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ă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verificare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prezentar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l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ist</a:t>
            </a:r>
            <a:r>
              <a:rPr b="0" lang="ro-RO" sz="1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ă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verificare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ublica</a:t>
            </a:r>
            <a:r>
              <a:rPr b="0" lang="ro-RO" sz="14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ţ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ie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listă verificare site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jurnal de reflecţie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grilă de scorare investigaţie şi prezenta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L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f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â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ul fiec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i ore ve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ţ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mpleta jurnalul de reflec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e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. Timp de lucru: 5 min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 Rounded MT Bold"/>
              </a:rPr>
              <a:t>Folosiţi pentru alcătuirea prezentării finale: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ro-RO" sz="1400" spc="-1" strike="noStrike" u="sng">
                <a:solidFill>
                  <a:srgbClr val="009999"/>
                </a:solidFill>
                <a:uFillTx/>
                <a:latin typeface="Arial Rounded MT Bold"/>
                <a:hlinkClick r:id="rId22"/>
              </a:rPr>
              <a:t>descriptori evaluare _prezenta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3"/>
          <a:stretch/>
        </p:blipFill>
        <p:spPr>
          <a:xfrm>
            <a:off x="0" y="1052640"/>
            <a:ext cx="210348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4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4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142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142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80"/>
                                        <p:tgtEl>
                                          <p:spTgt spid="142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960"/>
                            </p:stCondLst>
                            <p:childTnLst>
                              <p:par>
                                <p:cTn id="13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3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80840" y="333000"/>
            <a:ext cx="78944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4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it-IT" sz="4000" spc="-1" strike="noStrike">
                <a:solidFill>
                  <a:srgbClr val="ff0000"/>
                </a:solidFill>
                <a:latin typeface="Arial"/>
              </a:rPr>
              <a:t>Localizarea, morfologia si anatomia organelor nervoase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986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In ce forma intalnim grupate componentele neuronale in organele nervoa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are este localizarea structurilor albe si cenusii in nevrax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e corespondent intalniti pentru fiecare structurile nervoase centrale  in sistemul nervos periferi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bliografi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CD  Net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Craciun Dan – coordonator de proiect, 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de anatomie ,  Ed. Steaua Nordulu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3 Ene Stelica si colaboratorii,  Biologie,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manual pentru clasa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 XI a,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. Gimnasium,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372360" y="1989000"/>
            <a:ext cx="2581200" cy="46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3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2340000" y="907560"/>
            <a:ext cx="68040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it-IT" sz="2400" spc="-1" strike="noStrike">
                <a:solidFill>
                  <a:srgbClr val="009999"/>
                </a:solidFill>
                <a:latin typeface="Arial"/>
              </a:rPr>
              <a:t>In activitatea urmatoare se va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- prezenta tema efectuata dupa cerinta anterioara ;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- evalua tema pentru acasă a unui coleg (nu trebuie să fie aceleaşi grupuri  ca şi la tema pentru  acasă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- formula in fiecare grupa o intrebare privitoare la prezentarea facuta pe tema propus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trebarile vor fi postate pe blog, nefiind permisa repetarea intrebarilor celorlalte gru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262728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7" dur="250" autoRev="1" fill="hold"/>
                                        <p:tgtEl>
                                          <p:spTgt spid="1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8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0000"/>
                </a:solidFill>
                <a:latin typeface="Arial"/>
              </a:rPr>
              <a:t>„</a:t>
            </a:r>
            <a:r>
              <a:rPr b="0" lang="ro-RO" sz="4400" spc="-1" strike="noStrike">
                <a:solidFill>
                  <a:srgbClr val="ff0000"/>
                </a:solidFill>
                <a:latin typeface="Arial"/>
              </a:rPr>
              <a:t>Circuite neuronal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721044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e cai de comunicare identificati intre componentele sistemului nerv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e sunt reflexele?                                                                                                 Ce rol au componentele albe si cenusii in realizarea unui reflex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e grad de interdependenta gasiti intre reflexele inchise la diferite niveluri nervoase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bliografi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1  Ene Stelica si colaboratorii,  Biologie, manual pentru clasa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 XI a, Ed. Gimnasium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 Niculescu Th. Cezar si colaboratorii , Anatomia si fiziologia omului – compendiu,  Ed. Corint, Bucuresti, 2001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teriale educationale AeL – SC SIVECO 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ww.edu.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ww.ase.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ww.didactic.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451640" y="1341360"/>
            <a:ext cx="147636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4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4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2484000" y="981000"/>
            <a:ext cx="665964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In activitatea urmatoare se vor: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prezinta temele efectuate pe subiectul „Circuite neuronale”, ( cate un reprezentant al fiecarei  grupe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lansa intrebari de discutie pe tema propusa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iza o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dezba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pe baza informatiilor acumulate prin activitate individual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2205000"/>
            <a:ext cx="245916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9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9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9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3203640" cy="5877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851280" y="0"/>
            <a:ext cx="489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F</a:t>
            </a:r>
            <a:r>
              <a:rPr b="0" lang="ro-RO" sz="2000" spc="-1" strike="noStrike">
                <a:solidFill>
                  <a:srgbClr val="ff0000"/>
                </a:solidFill>
                <a:latin typeface="Comic Sans MS"/>
              </a:rPr>
              <a:t>actori de influienta si rezultatele actiunii lor asupra structurii si </a:t>
            </a:r>
            <a:br>
              <a:rPr sz="2000"/>
            </a:br>
            <a:r>
              <a:rPr b="0" lang="ro-RO" sz="2000" spc="-1" strike="noStrike">
                <a:solidFill>
                  <a:srgbClr val="ff0000"/>
                </a:solidFill>
                <a:latin typeface="Comic Sans MS"/>
              </a:rPr>
              <a:t>     functiei sistemului nervos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771640" y="981000"/>
            <a:ext cx="6372360" cy="62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Care sunt factorii externi ce influienteaza activitatea sistemului nervo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Ce modificari structurale si functionale apar ca urmare a lezarii structurilor nervoas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Ce tehnici actuale de studiu si diagnoza in patologia nervoasa ati putea descrie?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are sunt consecintele lezarii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ganelor nervoase?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Bibliografie</a:t>
            </a:r>
            <a:r>
              <a:rPr b="0" lang="ro-RO" sz="18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waybuilder.net/sweethaven/MedTech/Neurologie</a:t>
            </a:r>
            <a:r>
              <a:rPr b="0" lang="ro-RO" sz="1800" spc="-1" strike="noStrike">
                <a:solidFill>
                  <a:srgbClr val="009999"/>
                </a:solidFill>
                <a:latin typeface="Arial"/>
              </a:rPr>
              <a:t>   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ro.wikipedia.org/wiki/Sistem_nervos_vegetati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ro.altermedia.info/stiintatehnologie/aditivii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http://www.metas.com.br/drogas/drogas3.</a:t>
            </a:r>
            <a:r>
              <a:rPr b="0" lang="ro-RO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htm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mrpitbull.3x.ro/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2340000" y="620280"/>
            <a:ext cx="68040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In activitatea urmatoare se vor: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zenta publicatiil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iza dezbateri pe marginea subiectelor prezentat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 publicatiile de catre profesor si elevi pe baza criteriilor anun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210348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8T09:35:29Z</dcterms:created>
  <dc:creator>Lab1</dc:creator>
  <dc:description/>
  <dc:language>en-US</dc:language>
  <cp:lastModifiedBy>ANTON</cp:lastModifiedBy>
  <dcterms:modified xsi:type="dcterms:W3CDTF">2008-01-19T19:54:28Z</dcterms:modified>
  <cp:revision>11</cp:revision>
  <dc:subject/>
  <dc:title>Diapozitivul 1</dc:title>
</cp:coreProperties>
</file>